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5245E-E921-4A72-990B-8F398862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6BAE0-2221-4412-924C-A26BC0471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A69A-F06C-4B0B-B94A-AD8757748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A699-DF8C-4B43-B28C-87894B6CB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DA8FE-3086-40C1-9454-B7F9B1CB2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D194-B821-4B38-8CD4-0E6F044F0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F167-61C2-4767-8942-1A07669B8F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0234-E49D-4D7A-9220-999B84651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DFD1-F9B3-44C6-8707-3F1F9C8CE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0457D-1E03-4CC6-9BC2-3A511A810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78DE-5CAF-4557-A3FC-8ADB0D159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B7DA5-2967-41B8-A18E-95EF1EA9E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CF1C-AF58-4597-857B-2A9626A03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FBC1-91F8-48F5-924C-D8D6B20392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AC0CA-525E-46A5-A284-E59209531D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6: Cognitive Psychology/Understanding Human Traits Continued/Intro to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raging Ment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s surrogate for actu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ency and Coh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for Error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aration for cognitive dissonance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-education and persuasion (attention iss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aking Menta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new technology or process changes or invalidates user mental mod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ffman's breaching experiments – effect on individuals when mental models deliberately vi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Ic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ambig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in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 New input/output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devices and tools challenge pre-existing notions of interaction - require readjustment on the part of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: V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3D worlds to create immersive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ilures of early and current 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Life a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t is - and what it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vs. Quantitative - general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personal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PS - analysis of 1) how school adapted to computers in the classroom and 2) how students could inform design of educational softwar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SAE - analysis of how racecar team engaged organizational learning successfully despite 1) having limited resources and 2) turnover 40-66%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ur example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bal Seminar - online class analyzed through content analysis - apparently done “wrong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smouth Tavern - analysis of student/townie relations in a local pu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Two Weeks (hopefully on schedu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 and quantitative research methods – with a focus on what you can do when you don't have access to the population at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s tonight give some ideas to consider on th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ke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al projec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ally a sensory phenomenon, but influenced by past expectations, culture,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/green/blue, Paris in the the Spring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stency is assumed - can lead to il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st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/Whole - we understand parts as part of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ximity - close things are grou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ity - patterns are com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ity - similar things are seen a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ure - we fill in ga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pth Perce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ve size and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tion parall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lap and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 have to be faked in 2D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ception and Col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 can be used to accent, highlight commona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abused (e.g., too many colours, clashing colour sche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pretation by cultural 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bl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ntal Mod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imonious models of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rages long-term memory to focus attention on important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lict between designer, user and system models are common and a major source of design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n 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orly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gue bound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us or il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ye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20:05:03Z</dcterms:created>
  <dc:creator/>
  <dc:description/>
  <dc:language>en-US</dc:language>
  <cp:lastModifiedBy>Sheridan College</cp:lastModifiedBy>
  <dcterms:modified xsi:type="dcterms:W3CDTF">2009-02-02T17:52:03Z</dcterms:modified>
  <cp:revision>26</cp:revision>
  <dc:subject/>
  <dc:title>CCT 333: Imagining the Audience in a Wired World</dc:title>
</cp:coreProperties>
</file>